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B5E-813B-403A-A6D1-F0AB0349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DD0-9EE6-4C0A-ADA9-A892651C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82A-1611-4090-96D3-695B9AFD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0E1F-ECCF-4A46-A9CE-0510B1A3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96F-1C42-4678-BA82-67D11B99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C8B-ACB8-4EAD-A851-2DFE8D2B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93D4-3A37-451C-B2F8-EB1FCFCC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1EC8-59C6-4355-9A74-973E3195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449-FDCA-43A3-A6F3-3F277BDB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63CA-7440-4AA9-9B46-4D535091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B36-E0FB-4DBE-8D9B-A4000E56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8C2-D4A1-4C84-BAF9-AFEC1267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2903-953B-425F-8E73-893E622FA91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Získavanie Ag (Au) pri výrobe o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4960" indent="-264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g</a:t>
            </a: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(Au)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– strie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ff0066"/>
                </a:solidFill>
                <a:uFillTx/>
                <a:latin typeface="Arial"/>
              </a:rPr>
              <a:t>I.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Získavanie Ag z rúd a koncentrátov cca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lasické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algamácia, kupelácia, Pattinsonova metóda, Patera pro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úhovanie kyanidizačné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(zo suroví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Získavanie Ag z medziproduktov pri výrobe NK a druhotných surovín cca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acovanie Ag peny z rafinácie 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acovanie anódových kalov z elektrolýzy Cu, 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acovanie odpadov (elektronický, fotografický, katalyzátory, 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tníctvo 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b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gale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udy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0,14 – 15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Pb        (Pb – Zn rudy, polymetalické – Cu,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,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,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,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,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,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u,</a:t>
            </a:r>
            <a:r>
              <a:rPr b="1" lang="sk-SK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g</a:t>
            </a:r>
            <a:r>
              <a:rPr b="1" lang="sk-SK" sz="1800" spc="-1" strike="noStrike">
                <a:solidFill>
                  <a:srgbClr val="ff0066"/>
                </a:solidFill>
                <a:latin typeface="Arial"/>
              </a:rPr>
              <a:t>, Pt,.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Arial"/>
              </a:rPr>
              <a:t>Koncentrá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40 – 70 % 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Ttav. = 327,4 °C            Tvaru = 1725 °C         Tsubl. – nad 550 °C  (pary jedovaté!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90 % – pyrometalurgicky ---  oxidačné aglomeračné praženie ---  redukčné tav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10 % – ISP pro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ff"/>
                </a:solidFill>
                <a:uFillTx/>
                <a:latin typeface="Arial"/>
              </a:rPr>
              <a:t>Praženi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(950 – 1 000 °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ieľ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bS + 3/2O</a:t>
            </a:r>
            <a:r>
              <a:rPr b="1" lang="sk-SK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 = PbO + SO</a:t>
            </a:r>
            <a:r>
              <a:rPr b="1" lang="sk-SK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aglomerácia – prídavok troskotvorných prísad – tvorba trosky s nízkou teplotou tavenia – natavenie časti Pb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Koncentrát 10 – 20 % S – aglomeračná zmes 8 –10 % S – aglomerát 2 % 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000" spc="-1" strike="noStrike">
                <a:solidFill>
                  <a:srgbClr val="000000"/>
                </a:solidFill>
                <a:latin typeface="Arial"/>
              </a:rPr>
              <a:t>Produkt :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aglomerát  40 – 50 % Pb, 2 % 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ff"/>
                </a:solidFill>
                <a:uFillTx/>
                <a:latin typeface="Arial"/>
              </a:rPr>
              <a:t>Tavenie  </a:t>
            </a:r>
            <a:r>
              <a:rPr b="1" lang="sk-SK" sz="1800" spc="-1" strike="noStrike">
                <a:solidFill>
                  <a:srgbClr val="0000ff"/>
                </a:solidFill>
                <a:latin typeface="Arial"/>
              </a:rPr>
              <a:t>    (900 – 1000 </a:t>
            </a:r>
            <a:r>
              <a:rPr b="1" lang="sk-SK" sz="1800" spc="-1" strike="noStrike" baseline="30000">
                <a:solidFill>
                  <a:srgbClr val="0000ff"/>
                </a:solidFill>
                <a:latin typeface="Arial"/>
              </a:rPr>
              <a:t>o</a:t>
            </a:r>
            <a:r>
              <a:rPr b="1" lang="sk-SK" sz="1800" spc="-1" strike="noStrike">
                <a:solidFill>
                  <a:srgbClr val="0000ff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Vsádzka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: aglomerát + troskotvorné prísady + koks + vratné materiály – trosky úlet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dp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Cie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bO + CO = Pb + CO</a:t>
            </a:r>
            <a:r>
              <a:rPr b="0" lang="sk-SK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ff"/>
                </a:solidFill>
                <a:latin typeface="Arial"/>
              </a:rPr>
              <a:t>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ff"/>
                </a:solidFill>
                <a:latin typeface="Arial"/>
              </a:rPr>
              <a:t>Surové Pb: 90 – 96 (99) % Pb</a:t>
            </a:r>
            <a:r>
              <a:rPr b="0" lang="sk-SK" sz="1400" spc="-1" strike="noStrike">
                <a:solidFill>
                  <a:srgbClr val="0000ff"/>
                </a:solidFill>
                <a:latin typeface="Arial"/>
              </a:rPr>
              <a:t> (Cu, Zn, Sb, As, Sn, Bi, </a:t>
            </a:r>
            <a:r>
              <a:rPr b="1" lang="sk-SK" sz="1800" spc="-1" strike="noStrike">
                <a:solidFill>
                  <a:srgbClr val="ff0066"/>
                </a:solidFill>
                <a:latin typeface="Arial"/>
              </a:rPr>
              <a:t>Ag, Au, Pt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ff"/>
                </a:solidFill>
                <a:uFillTx/>
                <a:latin typeface="Arial"/>
              </a:rPr>
              <a:t>Rafin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Cu – pomocou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0066"/>
                </a:solidFill>
                <a:latin typeface="Arial"/>
              </a:rPr>
              <a:t>Au, Pt, Ag: prídavkom práškového Zn do taveniny </a:t>
            </a:r>
            <a:r>
              <a:rPr b="1" lang="sk-SK" sz="1800" spc="-1" strike="noStrike">
                <a:solidFill>
                  <a:srgbClr val="ff0066"/>
                </a:solidFill>
                <a:latin typeface="Arial"/>
                <a:ea typeface="Arial"/>
              </a:rPr>
              <a:t>→ </a:t>
            </a:r>
            <a:r>
              <a:rPr b="1" lang="sk-SK" sz="1800" spc="-1" strike="noStrike">
                <a:solidFill>
                  <a:srgbClr val="0000ff"/>
                </a:solidFill>
                <a:latin typeface="Arial"/>
                <a:ea typeface="Arial"/>
              </a:rPr>
              <a:t>zinková pena = medziprodu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Zn – prídavkom taveniny Na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n, As, Sb –  oxidácia taveninou NaNO</a:t>
            </a:r>
            <a:r>
              <a:rPr b="0" lang="sk-SK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+ NaOH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Produ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afinované Pb: 99 – 99,99 % 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31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arkesovanie</a:t>
            </a: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 (Alexander Parkes, rok 18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ískavanie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g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 rafináci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ového Pb pomocou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vorba Ag (A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Pt,.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peny  na povrchu taveniny Pb v dôsledk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raničene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zájomnej rozpustnosti  Pb a Zn z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ysok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plô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úplnej nerozpust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n – Ag (Au) intermetalických zlúčenín v Pb za znížených teplô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ízkych teplote tavenia P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Ttav   =  665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av =  636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uZ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AuZn,  A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n,  A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pakovaným prídavkom zinku až 4 – krát </a:t>
            </a:r>
            <a:br>
              <a:rPr sz="2000"/>
            </a:b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privedie takmer všetko Ag, Au, (KPS) do pe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Zlato a platina prechádzajú z olova do zinku prvé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d striebrom a tak je prvá vznikajúca pena zlatá (Pt kov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ázok 2" descr=""/>
          <p:cNvPicPr/>
          <p:nvPr/>
        </p:nvPicPr>
        <p:blipFill>
          <a:blip r:embed="rId1"/>
          <a:srcRect l="2432" t="6524" r="2829" b="1345"/>
          <a:stretch/>
        </p:blipFill>
        <p:spPr>
          <a:xfrm>
            <a:off x="6781680" y="2819520"/>
            <a:ext cx="2149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Obrázok 4" descr=""/>
          <p:cNvPicPr/>
          <p:nvPr/>
        </p:nvPicPr>
        <p:blipFill>
          <a:blip r:embed="rId2"/>
          <a:stretch/>
        </p:blipFill>
        <p:spPr>
          <a:xfrm>
            <a:off x="176040" y="1692360"/>
            <a:ext cx="88315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racovanie Ag pen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ovanie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ilácia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Z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pelá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b + 0,5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PbO   Ttav = 883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kt: zliatina  60 – 70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% Ag, Au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</a:rPr>
              <a:t> (K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san Orac</cp:lastModifiedBy>
  <dcterms:modified xsi:type="dcterms:W3CDTF">2021-10-20T05:59:5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