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CED-0494-4D74-9243-1FA65BA6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606-5450-4900-B45A-D8D4290A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7A4-D868-453C-B0A6-11247091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930-8678-4F9C-95F0-78C49706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173-E98E-4EA9-8E48-04D9EB24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2BA-71A8-4422-B143-4FFF28C7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65A-180A-4685-8FB5-310793D3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75BF-D0A2-4E13-BF27-43DA4A26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5BA-5BA7-4053-B905-DBD27A22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99C-2C8E-4A2B-AF7C-B61F7D27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F7D-E682-4AE0-B724-32AEA6E4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395-D9A4-4A93-BE18-DE3A5FAB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752C-AB2F-4EEA-9D54-F5A979BF812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Lúhovanie Au a 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Lúhovanie vo vodných roztokoch alkalických kyanidov NaCN (KCN) + 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Arial"/>
              </a:rPr>
              <a:t>Vplyv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Je veľmi dôležité udržiavať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saditosť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roztokov počas lúhovania, aby sa zabránilo tvorbe extrémne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oxického HC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 = HCN + OH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ázok 2" descr=""/>
          <p:cNvPicPr/>
          <p:nvPr/>
        </p:nvPicPr>
        <p:blipFill>
          <a:blip r:embed="rId1"/>
          <a:srcRect l="0" t="0" r="2015" b="3205"/>
          <a:stretch/>
        </p:blipFill>
        <p:spPr>
          <a:xfrm>
            <a:off x="1447920" y="2743200"/>
            <a:ext cx="59166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soká zásaditosť znižuje rýchlosť lúhovania zl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i vyšších hodnotách pH (nad 12) dochádza k prudkému zníženiu rýchlosti lúhovania. Z tohto dôvodu sa musí prísne kontrolovať pH rozt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praxi sa pH udržiava v rozmedzí 11 – 12 prídavkom Ca(OH)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ok 3" descr=""/>
          <p:cNvPicPr/>
          <p:nvPr/>
        </p:nvPicPr>
        <p:blipFill>
          <a:blip r:embed="rId1"/>
          <a:srcRect l="0" t="3693" r="0" b="3525"/>
          <a:stretch/>
        </p:blipFill>
        <p:spPr>
          <a:xfrm>
            <a:off x="1863720" y="2490840"/>
            <a:ext cx="54165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hemické príčin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trát kyanidu spočívajú v spotrebe kyanidových solí na soli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ných kovo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než na zlúčeniny zl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ť kyanidu môže prejsť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 prchavú zložku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 okrem toho sa vo veľkej miere kyanid spotrebuje na tvorbu solí iných kovov, ktoré sprevádzajú zlato v ru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echanické strat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yanidu spočívajú v tom, že nenastane dokonalé oddelenie roztoku od nerozpustného zvyšku po skončení lúhov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tratám kyanidu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 možné zabrániť v prvom rade pridávaním 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zv. ochrannej zásady vo forme vápenca alebo hydroxidu sodného do roztoku, čomu sa hovorí ochranná alkalita rozt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Arial"/>
              </a:rPr>
              <a:t>Vplyv tepl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vyšovaním teploty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do 85 </a:t>
            </a:r>
            <a:r>
              <a:rPr b="0" lang="sk-SK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C sa zvyšuj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rýchlosť lúhovania ušľachtilých kovov. Znižuje sa však obsah kyslíka v rozto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praxi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a lúhovanie uskutočňuje pri teplote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okoli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ok 2" descr=""/>
          <p:cNvPicPr/>
          <p:nvPr/>
        </p:nvPicPr>
        <p:blipFill>
          <a:blip r:embed="rId1"/>
          <a:stretch/>
        </p:blipFill>
        <p:spPr>
          <a:xfrm>
            <a:off x="2147760" y="2492280"/>
            <a:ext cx="51674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000000"/>
                </a:solidFill>
                <a:latin typeface="Arial"/>
              </a:rPr>
              <a:t>Vplyv mieš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Aktivačná energia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lúhovania je v rozmedzí </a:t>
            </a: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8 – 20 kJ/m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, čo je typická hodnota pre proces kontrolovaný </a:t>
            </a: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difúziou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Miešanie zvyšuje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rýchlosť lúhovania ušľachtilých kovov, čo je typické pre proces kontrolovaný </a:t>
            </a: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difúziou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152280" y="13690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6560"/>
                <a:tab algn="l" pos="1554120"/>
                <a:tab algn="l" pos="2103480"/>
                <a:tab algn="l" pos="2651040"/>
                <a:tab algn="l" pos="3200400"/>
                <a:tab algn="l" pos="3749760"/>
                <a:tab algn="l" pos="4297320"/>
                <a:tab algn="l" pos="4846680"/>
                <a:tab algn="l" pos="5394240"/>
                <a:tab algn="l" pos="5943600"/>
                <a:tab algn="l" pos="6492960"/>
                <a:tab algn="l" pos="7040520"/>
                <a:tab algn="l" pos="7589880"/>
                <a:tab algn="l" pos="8137440"/>
                <a:tab algn="l" pos="8686800"/>
                <a:tab algn="l" pos="9236160"/>
                <a:tab algn="l" pos="9783720"/>
                <a:tab algn="l" pos="10333080"/>
                <a:tab algn="l" pos="10880640"/>
                <a:tab algn="l" pos="11430000"/>
                <a:tab algn="l" pos="11979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ežné sprievodné kovy: Cu, Fe, Ni, Co, Zn, Hg, Pb, As, S, 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6560"/>
                <a:tab algn="l" pos="1554120"/>
                <a:tab algn="l" pos="2103480"/>
                <a:tab algn="l" pos="2651040"/>
                <a:tab algn="l" pos="3200400"/>
                <a:tab algn="l" pos="3749760"/>
                <a:tab algn="l" pos="4297320"/>
                <a:tab algn="l" pos="4846680"/>
                <a:tab algn="l" pos="5394240"/>
                <a:tab algn="l" pos="5943600"/>
                <a:tab algn="l" pos="6492960"/>
                <a:tab algn="l" pos="7040520"/>
                <a:tab algn="l" pos="7589880"/>
                <a:tab algn="l" pos="8137440"/>
                <a:tab algn="l" pos="8686800"/>
                <a:tab algn="l" pos="9236160"/>
                <a:tab algn="l" pos="9783720"/>
                <a:tab algn="l" pos="10333080"/>
                <a:tab algn="l" pos="10880640"/>
                <a:tab algn="l" pos="11430000"/>
                <a:tab algn="l" pos="11979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Fe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tvoria komplexy prednostne pred ušľachtilými kovmi – zvyšovanie spotreby kyanidu, kyslí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6560"/>
                <a:tab algn="l" pos="1554120"/>
                <a:tab algn="l" pos="2103480"/>
                <a:tab algn="l" pos="2651040"/>
                <a:tab algn="l" pos="3200400"/>
                <a:tab algn="l" pos="3749760"/>
                <a:tab algn="l" pos="4297320"/>
                <a:tab algn="l" pos="4846680"/>
                <a:tab algn="l" pos="5394240"/>
                <a:tab algn="l" pos="5943600"/>
                <a:tab algn="l" pos="6492960"/>
                <a:tab algn="l" pos="7040520"/>
                <a:tab algn="l" pos="7589880"/>
                <a:tab algn="l" pos="8137440"/>
                <a:tab algn="l" pos="8686800"/>
                <a:tab algn="l" pos="9236160"/>
                <a:tab algn="l" pos="9783720"/>
                <a:tab algn="l" pos="10333080"/>
                <a:tab algn="l" pos="10880640"/>
                <a:tab algn="l" pos="11430000"/>
                <a:tab algn="l" pos="11979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nečisťujú roz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6560"/>
                <a:tab algn="l" pos="1554120"/>
                <a:tab algn="l" pos="2103480"/>
                <a:tab algn="l" pos="2651040"/>
                <a:tab algn="l" pos="3200400"/>
                <a:tab algn="l" pos="3749760"/>
                <a:tab algn="l" pos="4297320"/>
                <a:tab algn="l" pos="4846680"/>
                <a:tab algn="l" pos="5394240"/>
                <a:tab algn="l" pos="5943600"/>
                <a:tab algn="l" pos="6492960"/>
                <a:tab algn="l" pos="7040520"/>
                <a:tab algn="l" pos="7589880"/>
                <a:tab algn="l" pos="8137440"/>
                <a:tab algn="l" pos="8686800"/>
                <a:tab algn="l" pos="9236160"/>
                <a:tab algn="l" pos="9783720"/>
                <a:tab algn="l" pos="10333080"/>
                <a:tab algn="l" pos="10880640"/>
                <a:tab algn="l" pos="11430000"/>
                <a:tab algn="l" pos="11979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PS tiež vytvárajú komplexy a budú sa rozpúšťať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52280" y="380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Arial"/>
              </a:rPr>
              <a:t>Vplyv príme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228600" y="3581280"/>
            <a:ext cx="8686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Me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äčšina minerálov medi okrem chalkopyritu je veľmi dobre rozpust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roztokoch kyanid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eď tvorí niekoľko komplexov s kyanidom napr. Cu(CN)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Cu(CN)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Cu(CN)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3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eď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najviac zvyšuje spotrebu reagentov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Želez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ždy prítomné v zlatonosných rudách vo forme oxidov, sulfi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S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pyrit) – málo reaguje s kyanid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Ortuť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ežne sa vyskytuje v surovin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tvára stabilný komplex a zvyšuje spotrebu kyani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Zin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častejšie vo forme ZnS (sfaler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úhuje sa v kyanidoch a vytvára kyanokomplex rozpustný vo v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Olo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bS (galenit) – nereaguje s kyanid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Telur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kyanidizačnom procese nespôsobujú probl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Arzén, antim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ajčastejšie FeAsS (arzenopyrit), Sb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(stib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eAsS – nereaguje s kyanid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As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Sb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– reagujú a spotrebovávajú kyanid  a kysl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Priemyselné podmienky s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lúhovanie za atmosferického 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ízke koncentrácie kyanidu: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0,01– 0,25 % Na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0,2 – 0,5 kg NaCN na tonu r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latívne vysoké pH – minimalizovanie strát CN</a:t>
            </a:r>
            <a:r>
              <a:rPr b="0" lang="sk-SK" sz="3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hydrolýzou, pH = 11 –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ff"/>
                </a:solidFill>
                <a:latin typeface="Arial"/>
              </a:rPr>
              <a:t>Proces lúhovania zlata a striebra v roztokoch alkalických kyanid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h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fektívny i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ekonomicky výhodný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e rôzne typy zlatonosných materiálo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Nedosta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soká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toxicit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reag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ožná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tvorb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eľmi jedovatého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kyanovodí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ožný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 prienik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kyanidových solí do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odpadný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ô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latívne vysoké nároky na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bezpečnosť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a ochranu zdravia pr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dostatočná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selektívnosť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oc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é časy lúhovania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24 – 72 hod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utná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neutralizácia</a:t>
            </a:r>
            <a:r>
              <a:rPr b="0" lang="sk-SK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spracovaní surovín, vyžadujúcich biooxidačnú alebo kyslú predúpra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ces kyanidizácie zlata sa stal univerzálnou technológiou získavania zlata od roku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keď agličani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.S.MacArthur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brati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. a W. Forrest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to proces patentov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errill-Crowe proce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 precipitácia ušľachtilých kovov z kyanidových roztokov zinkovým prachom po predchádzajúcej deareácii rozto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vé priemyselné využitie (Nový Zéland, Južná Afr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 a Ag – najmenej reaktívne ko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 – výskyt v prírode v kovovej 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g – v kovovej forme a vo forme sulfidu Ag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PAL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EGUSSA nemecká spoločnosť je autorom proc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0066"/>
                </a:solidFill>
                <a:latin typeface="Arial"/>
              </a:rPr>
              <a:t>Lúhovanie Au a Ag kyanizačným lúhovaním s prídavkom H</a:t>
            </a:r>
            <a:r>
              <a:rPr b="1" lang="sk-SK" sz="1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sk-SK" sz="16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1" lang="sk-SK" sz="1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k-SK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= katalyzátor – vysoká účinnosť oxidácie Au a Ag pri kyanidovom lúhova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lasický spôsob = prevzdušňovanie rmutu – nízka rozpustnosť kyslíka v rmute  – nízka kinetika procesu a nižšie výťažnosti Au,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 priebehu lúhovania sa vytvára peroxid vodíka ako medziprodukt z oxidácie ušľachtilých kovov a zúčastňuje sa procesu oxidá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 Au + 4 KCN + 2 H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= 2 K[Au(CN)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] + 2 KOH + H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 Au + 4 KCN + H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= 2 K[Au(CN)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] + 2 K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0000ff"/>
                </a:solidFill>
                <a:latin typeface="Arial"/>
              </a:rPr>
              <a:t>Cieľom prídavku peroxidu vodíka je zabezpečiť dostatok potrebného kyslíka</a:t>
            </a:r>
            <a:r>
              <a:rPr b="0" lang="sk-SK" sz="1600" spc="-1" strike="noStrike">
                <a:solidFill>
                  <a:srgbClr val="0000ff"/>
                </a:solidFill>
                <a:latin typeface="Arial"/>
              </a:rPr>
              <a:t> pre lúhovan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 zhode s týmito rovnicami peroxid vodíka musí byť rozložený ako prvý a uvoľniť kyslík na oxidáciu Au a Ag podľa rovn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=  0,5 O</a:t>
            </a:r>
            <a:r>
              <a:rPr b="1" lang="sk-SK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1" lang="sk-SK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Výhody kyanidového lúhovania za prídavku peroxidu vodí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ššia rozpustnosť kyslíka v rmute o 50 – 200 % než prevzdušňovaní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ššia rýchlosť rozpúšťania, úmerná zvyšujúcej sa koncentrácii kyslíka v rm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níženie spotreby kyanidov v dôsledku znížených strát H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Regenerácia a zneškodnenie kyanidových roztokov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adné vody musia byť zbavené kyanidov pred ich vypustením do životného prostredia, pretože sú silne toxick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A) Regenerácia pomocou 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alebo H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SO</a:t>
            </a:r>
            <a:r>
              <a:rPr b="1" i="1" lang="sk-SK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bublávaním 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 roztoku alebo prídavkom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zniká HCN, ktorý je absorbovaný do roztoku NaOH za tvorby NaCN a ten je recyklovaný (pH = 2,8 – 3,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2 CN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 = 2 HCN(g) + SO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CN + NaOH = NaCN + 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eb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 HCN + Ca(OH)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= Ca(CN)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B) Zneškodn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Arial"/>
              </a:rPr>
              <a:t>1. Oxidácia kyanidov na kyaná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tiaľ čo kyanidové ióny sú veľmi toxické, produkt ich oxidácie,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kyanátové ióny CNO</a:t>
            </a:r>
            <a:r>
              <a:rPr b="1" lang="sk-SK" sz="2000" spc="-1" strike="noStrike" baseline="30000">
                <a:solidFill>
                  <a:srgbClr val="ff0000"/>
                </a:solidFill>
                <a:latin typeface="Arial"/>
              </a:rPr>
              <a:t>–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 nie sú toxické.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oxidáciu sa používa chlór alebo NaOCl (CaOC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O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CNO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Cl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Arial"/>
              </a:rPr>
              <a:t>2. Ozonizá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xidácia kyanidov a tiokyanátov ozón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Arial"/>
              </a:rPr>
              <a:t>3. Oxidácia s H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Arial"/>
              </a:rPr>
              <a:t>4. Elektrolýza, iónová vý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Arial"/>
              </a:rPr>
              <a:t>4. Použitie mikroorganiz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vhodnejšie sú heterotrofné baktérie rodu "</a:t>
            </a: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pseudomona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" a nitrifikačné "</a:t>
            </a: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nitrosomou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" v prostredí pH = 7 – 8,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kroorganizmy katalyzujú oxidáciu kyanidov až na oxid uhličitý a dusičn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 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5 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2 C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Účinnosť rozkladu dosahuje až 90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4. Získavanie Au, Ag z rozt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. Cementácia so Z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2. Cementácia s Al, (P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Sorpcia na aktívné uh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4. Iónová vý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5. Kvapalinová extrak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6. Elektrolý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1. Cementácia  zin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rrill – Crowe proce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precipitáci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ušľachtilých kovov z kyanidových roztokov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zinkovým pracho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o predchádzajúcej deareácii roztoku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cipitácia ušľachtilých kovov pomocou zinku bola používaná už od roku 1 8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áto metóda bola pôvodne patentovaná Salmanom a Pichardom a aplikovaná C. W. Merrillom v roku 18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intenzívnenie procesu bolo dosiahnuté zavedením odkysličenia roztoku T. B. Crowom v roku 19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1887 – MacArthur: Zn pil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1904 – Merrill: Zn pr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    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rowe: odkysličenie výluhov pred cementáciou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ementátor musí byť dobre rozpust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h je lepší ako pil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Reakc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 [Au(CN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Zn = [Zn(CN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kysličenie sa realizuje, aby sa nevytváral Zn(OH)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: Zn + 4 CN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 + 0,5 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[Zn(CN)4]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O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n + 0,5 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 = Zn(OH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Spracovanie zrazenin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razenina spolu so Zn práškom ide najprv na odvodneni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) Priama tavba v kelím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 čisté a bohaté vycementované zl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vením s troskotvornými prísad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ľahká taviteľnosť vznikajúcej tro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(borax):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dobrá tekutosť tro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vytvára bisilikátovú trosku, ktorá je ľahko taviteľná a nenapadá grafitové kelím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nižuje bod tavenia tro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(liadok sodný):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ko okysličov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b) Lúhovanie v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eľ: previesť Zn do rozt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mývanie s H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v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2. Cementácia s Al, (P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 Au(CN)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Al + 4 OH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3 Au + Al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6 CN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 Ag(CN)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Al + 4 OH 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3 Ag + Al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6 CN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3. Sorpcia na aktívné uh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hlie má kladný náboj a komplexy ušľachtilých kovov sú sorbované ako katión – aniónový pá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 Au(CN)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aq)  +  M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aq)  =  M[Au(CN)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 (aktívne uh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 polovici 70. rokov 20. storoč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ahradenie Merrill–Crowe procesu aktívnym uhlím umožnilo spracovanie nízko kvalitných rú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nížili sa kapitálové a prevádzkov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náme sú tri spôsoby použitia aktívneho uhli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dsorpcia z roztoku po lúhovaní (CIP – „carbon–in–pulp“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 CIP spôsob je založený na postupných krokoch lúhovania a adsorpcie zlata. Proces lúhovania prebieha v nádrži a po ukončení procesu sa následne rmut privádza do ďalšej nádrže, kde prebieha adsorpcia. Naadsorbované aktívne uhlie na od zvyšku rmutu oddelí filtrovaním cez sito. V praxi prebieha adsorpcia v niekoľkých nádržiach za sebou, zvyčajne je to 5 až 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dsorpcia priamo pri procese lúhovania kyanidm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(CIL – „carbon–in–leach“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 V tomto spôsobe prebieha súčasne lúhovanie a adsorpcia. Je použiteľný pre rudy, ktoré obsahujú organický a anorganický uhlík a zároveň pomáha minimalizovať problém s „preg–robbing“. „Preg–robbing“ je jav, pri ktorom dochádza ku stratám iónov Au(CN)2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z roztoku zložkami ru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dsorpcia v kolóne (CIC – „carbon–in–column“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 Proces adsorpcie prebieha v sérii kolón a je výhodné spracovávať roztok, ktorý obsahuje 2 – 3 hmot. % tuhých lát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1. Chemizmus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u + 2 CN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= Au(CN)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g + 2 CN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= Ag(CN)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Sumárne reakcie lúhovania A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 + 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N 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=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[Au(CN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+ 2 NaOH 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 Au + 4 NaCN 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2 Na[Au(CN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 + 2 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lato sa lúhuje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LEN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a prítomnosti oxidačného činidla !!!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ok 3" descr=""/>
          <p:cNvPicPr/>
          <p:nvPr/>
        </p:nvPicPr>
        <p:blipFill>
          <a:blip r:embed="rId1"/>
          <a:stretch/>
        </p:blipFill>
        <p:spPr>
          <a:xfrm>
            <a:off x="833400" y="671400"/>
            <a:ext cx="747720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4. Iónová vý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orpci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Cl + [Au(CN)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= R[Au(CN)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] + Cl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 – pevný skelet meniča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= forma meni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Elúci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do roztokov tiomočoviny, Na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ff"/>
                </a:solidFill>
                <a:uFillTx/>
                <a:latin typeface="Arial"/>
              </a:rPr>
              <a:t>5. Kvapalinová extrak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 + Au(CN)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aq) + nR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 org. + m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u(CN)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. nR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 . m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 or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extrakcia do anorganickej fá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6. Elektrolýza (vylučova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Elektrolyt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 – 10 g/l 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10 – 30 g/l KCN vo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60 – 70 °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 – 10 A/m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H = 5 – 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Anóda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nerezová oce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4 OH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= 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 + 4 e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Kató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 e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 = 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2 OH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Au(CN)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Au(CN)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u(CN)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= Au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+ 2 CN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= A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Sumárne reakcie lúhovania A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 + 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N 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=  2 Na[Ag(CN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+ 2 NaOH +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gCl + 2 KCN = K[Ag(C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] + 2 K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 + 4 KCN = 2 K[Ag(C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] +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xidáciou síry z minerálov vznikajú v procese príslušné kysel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→ S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–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→ S° → S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–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→ SO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–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→SO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xidáciou kyanidov vznikaj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CN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: rodanid (tiokyaná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NO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 kyana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yanidy sa odstraňujú oxidáci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2. Termodynamické podmienky lúhovania Au, 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E – pH dia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úhovanie zlata vo vodnom prostredí vyžaduje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oxidačný potenciál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1,4 V podľa reak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u = Au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° = + 1,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u = Au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° = + 1,88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strieb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g = Ag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° = +0,799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 prítomnosti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komplexotvorného reagentu CN</a:t>
            </a:r>
            <a:r>
              <a:rPr b="1" lang="sk-SK" sz="1800" spc="-1" strike="noStrike" baseline="30000">
                <a:solidFill>
                  <a:srgbClr val="ff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sa oxidačný potenciál rozpúšťania Au i Ag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zníži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na – 0,6 V resp. – 0,31 V podľa reakci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u + 2 CN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= Au(CN)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0,6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g + 2 CN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= Ag(CN)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0,31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ko ukazujú E – pH diagramy daných systém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ok 3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4643280" cy="3527640"/>
          </a:xfrm>
          <a:prstGeom prst="rect">
            <a:avLst/>
          </a:prstGeom>
          <a:ln w="0">
            <a:noFill/>
          </a:ln>
        </p:spPr>
      </p:pic>
      <p:pic>
        <p:nvPicPr>
          <p:cNvPr id="49" name="Obrázok 4" descr=""/>
          <p:cNvPicPr/>
          <p:nvPr/>
        </p:nvPicPr>
        <p:blipFill>
          <a:blip r:embed="rId2"/>
          <a:stretch/>
        </p:blipFill>
        <p:spPr>
          <a:xfrm>
            <a:off x="0" y="2438280"/>
            <a:ext cx="4572000" cy="3473640"/>
          </a:xfrm>
          <a:prstGeom prst="rect">
            <a:avLst/>
          </a:prstGeom>
          <a:ln w="0">
            <a:noFill/>
          </a:ln>
        </p:spPr>
      </p:pic>
      <p:sp>
        <p:nvSpPr>
          <p:cNvPr id="50" name="Obdĺžnik 6"/>
          <p:cNvSpPr/>
          <p:nvPr/>
        </p:nvSpPr>
        <p:spPr>
          <a:xfrm>
            <a:off x="298440" y="609480"/>
            <a:ext cx="8686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u je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najušľachtilý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kov –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jeho oblasť stability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pokrýva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celú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oblasť stabilty 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O v diagrame E – 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Au a Ag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sú veľmi ušľachtilé pri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nízkych 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 vysokých pH sú Au a Ag menej ušľachtilé – </a:t>
            </a: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alkalické kyanidové rozt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Ag je inertnejšie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v roztokoch kyanidových roztokov oproti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dnoduché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kyanidové sol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alkalických kovov sú vo vode rozpustné a iónizované a vytvárajú kovový katión a voľné kyanidové ió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aCN = Na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závislosti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od pH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kyanidové ióny hydrolyzujú za tvorby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kyanovodíka HC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 = HCN + O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yanovodík je slabá kyselina, ktorá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neúplne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isociuje vo vode podľa reakc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HCN = 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yanovodík má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vysoký tlak pá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už pri teplote okolia a spôsobuje straty kyanidu.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vysoko </a:t>
            </a:r>
            <a:r>
              <a:rPr b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toxický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ýchlosť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vyparovani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visí od pH prostredia a tepl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Minimáln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pH lúhovania v praxi je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nad 10 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3. Kinetika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Rýchlosť lúhovania zlata a striebra je ovplyvňovaná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centráciou kyanidu a kyslík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eploto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eľkosťou povrchu zŕn lúhovaného zla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ýchlosťou mieš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ustota rmu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tomnosť iónov sprievodných kovov v rozt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Arial"/>
              </a:rPr>
              <a:t>Vplyv koncentrácie kyanidu a kysl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ýchlosť lúhovania zlata s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uj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so zvyšovaním koncentráci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yanid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do určitého maxim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0,1 %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za ktorým sa rýchlosť mierne zniž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jú sa nízke koncentrácie: 0,01 – 0,25 % NaCN, K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ok 2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46051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šan Oráč</dc:creator>
  <dc:description/>
  <dc:language>en-US</dc:language>
  <cp:lastModifiedBy>Dusan Orac</cp:lastModifiedBy>
  <dcterms:modified xsi:type="dcterms:W3CDTF">2022-10-12T05:44:08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