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C32-9EA0-4FDC-8314-7C4E6AA7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4D6-9C96-4DAF-8982-8262E97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6BD-2938-4415-8E66-4DF08C7B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F39-82B1-4EEE-920B-3B51C5AA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B8E-66B4-4E6B-AED9-4997CE1F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ACA-A823-4269-BF32-8C24962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A09-B77E-40F8-BEC1-C8C920A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2EB-559B-4555-A019-FD99C678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AE0-7004-4E3C-8ED1-1932D2A4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172-4104-4571-8DCD-537F80F6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1BB-3CAF-4D4A-9457-BCF31624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098-598C-4AD5-ABDE-6E09059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8350-52A9-4FE4-A6F3-3047CD0DD1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latin_loest_sich_in_heissem_Koenigswass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olddus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ovy platinovej skupiny (K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stupnosť delenia a rafinácie UK a KPS spracovaním v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lúčavke kráľovskej (L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tav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t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Pd    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Rh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Ru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. Lúhovanie v lúčavke kráľovskej (L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LK = HNO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:HCl = 1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4 – 6M roztok HCl + 20 % HNO</a:t>
            </a:r>
            <a:r>
              <a:rPr b="0" lang="sk-SK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 = oxi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+ 3 HCl ↔ NOCl + C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+ 2 H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Cl + H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 ↔ HN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+ 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OCl + C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= silné oxidačné čini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Lúhovanie ovplyvň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ítomnosť 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orma prítomnosti KPS (kovy, oxidy, zlúčeniny, zliati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3 HCl = Cl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NOCl + 2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 H+ + 8 Cl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+ 2 N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+ Pt → [PtCl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−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 + 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t(s) + 2 HN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aq) + 4 HCl(aq) → (NO)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tCl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) + 3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 (l) + 1/2 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NO)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tCl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) + 2 HCl(aq) → H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tCl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aq) + 2 NOCl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xidácia:</a:t>
            </a: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tCl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aq) + Cl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g) → H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tCl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aq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  <a:ea typeface="Arial"/>
              </a:rPr>
              <a:t>Pt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[PtCl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  <a:ea typeface="Arial"/>
              </a:rPr>
              <a:t>Pd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   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  <a:ea typeface="Arial"/>
              </a:rPr>
              <a:t>Au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 roztoku 99 % Au, Pt a Pd, 50 %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rozpustný zbytok: Rh, Ru, Ir, Os, Ag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20px-Platin_loest_sich_in_heissem_Koenigswass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809880"/>
            <a:ext cx="2095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I. Redukcia Pd</a:t>
            </a:r>
            <a:r>
              <a:rPr b="1" lang="sk-SK" sz="2800" spc="-1" strike="noStrike" u="sng" baseline="30000">
                <a:solidFill>
                  <a:srgbClr val="0000ff"/>
                </a:solidFill>
                <a:uFillTx/>
                <a:latin typeface="Arial"/>
              </a:rPr>
              <a:t>4+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 na Pd</a:t>
            </a:r>
            <a:r>
              <a:rPr b="1" lang="sk-SK" sz="2800" spc="-1" strike="noStrike" u="sng" baseline="30000">
                <a:solidFill>
                  <a:srgbClr val="0000ff"/>
                </a:solidFill>
                <a:uFillTx/>
                <a:latin typeface="Arial"/>
              </a:rPr>
              <a:t>2+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, Ir</a:t>
            </a:r>
            <a:r>
              <a:rPr b="1" lang="sk-SK" sz="2800" spc="-1" strike="noStrike" u="sng" baseline="30000">
                <a:solidFill>
                  <a:srgbClr val="0000ff"/>
                </a:solidFill>
                <a:uFillTx/>
                <a:latin typeface="Arial"/>
              </a:rPr>
              <a:t>4+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 na Ir</a:t>
            </a:r>
            <a:r>
              <a:rPr b="1" lang="sk-SK" sz="2800" spc="-1" strike="noStrike" u="sng" baseline="30000">
                <a:solidFill>
                  <a:srgbClr val="0000ff"/>
                </a:solidFill>
                <a:uFillTx/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[Pd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[Pd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bude sa cementovať s Au v ďalšom k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II. Vylučovanie  práškového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 zrážaní Au na elektrolytickú rafinác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) Redukcia s kyselinou šťaveľo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 H[Au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 + 3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8 HCl + 2 Au + 6 C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Redukcia síranom železnat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[Au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 + 3 Fe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Au + Fe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20px-Golddu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5105520"/>
            <a:ext cx="1455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V.</a:t>
            </a:r>
            <a:r>
              <a:rPr b="0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Vylučovanie Pt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PtCl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+ 2 </a:t>
            </a: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sk-SK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NH</a:t>
            </a:r>
            <a:r>
              <a:rPr b="1" lang="sk-SK" sz="2800" spc="-1" strike="noStrike" u="sng" baseline="-25000">
                <a:solidFill>
                  <a:srgbClr val="0000ff"/>
                </a:solidFill>
                <a:uFillTx/>
                <a:latin typeface="Arial"/>
                <a:ea typeface="Arial"/>
              </a:rPr>
              <a:t>4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 baseline="-25000">
                <a:solidFill>
                  <a:srgbClr val="0000ff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[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tCl</a:t>
            </a:r>
            <a:r>
              <a:rPr b="1" lang="sk-SK" sz="2800" spc="-1" strike="noStrike" u="sng" baseline="-25000">
                <a:solidFill>
                  <a:srgbClr val="0000ff"/>
                </a:solidFill>
                <a:uFillTx/>
                <a:latin typeface="Arial"/>
                <a:ea typeface="Arial"/>
              </a:rPr>
              <a:t>6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]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+ 2 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Žíh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(NH</a:t>
            </a:r>
            <a:r>
              <a:rPr b="1" lang="sk-SK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[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tCl</a:t>
            </a:r>
            <a:r>
              <a:rPr b="1" lang="sk-SK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6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]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  <a:ea typeface="Arial"/>
              </a:rPr>
              <a:t>800 </a:t>
            </a:r>
            <a:r>
              <a:rPr b="1" lang="sk-SK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sk-SK" sz="2000" spc="-1" strike="noStrike">
                <a:solidFill>
                  <a:srgbClr val="ff0066"/>
                </a:solidFill>
                <a:latin typeface="Arial"/>
                <a:ea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P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+ 16 HCl + 2 N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Cl + 2 N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Produkt:</a:t>
            </a: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 Pt prášková h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Rafinácia Pt h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pakované lúhovanie v lúčavke kráľovsk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lučovanie s N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lcinácia podľa požadovanej čist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t h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V. Vylučovanie P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[Pd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 (Pd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s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1. Oxidácia Pd</a:t>
            </a:r>
            <a:r>
              <a:rPr b="1" lang="sk-SK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na Pd</a:t>
            </a:r>
            <a:r>
              <a:rPr b="1" lang="sk-SK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4+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+ HNO</a:t>
            </a:r>
            <a:r>
              <a:rPr b="1" lang="sk-SK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arenie 1/3 rozt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zlúčen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2. Vylučovanie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3. Lúhovanie s N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OH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→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roztok [Pd(N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]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. Zrážanie s HCl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d[(NH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]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+ 2 N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Žíhanie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d[(NH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]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Pd h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fin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pakované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úhovanie v N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H a zrážanie pomocou HCl zrazenina čistého 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[Pd(NH</a:t>
            </a:r>
            <a:r>
              <a:rPr b="1" lang="sk-SK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ff"/>
                </a:solidFill>
                <a:latin typeface="Arial"/>
              </a:rPr>
              <a:t>Spracovanie nerozpustného zvyšku po lúhovaní v LK (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Rh, Ru, Ir, Os, AgCl</a:t>
            </a:r>
            <a:r>
              <a:rPr b="0" lang="sk-SK" sz="2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avenie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óda, uhl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úhova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HN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= získavan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rozpusný zvyšok = získavanie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h, Ru, Ir,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VI. Získavanie R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. Tavenie s NaHS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(SO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obre rozpustné vo 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. Lúhovanie v 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oztok R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(SO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Prídavok NaOH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zrazenina Rh(OH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4. Rozpúšťani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oztok 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[RhCl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5. Prídavok NaN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 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= vyluč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zrazenina (N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Rh(NO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6. Lúhovanie v HCl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oztok (N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[RhCl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7. Odpareni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roztoku,tepelný roz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h h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8. Vyžíhanie v prúde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Kovové práškové Rh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99,8 – 99,85 %)</a:t>
            </a:r>
            <a:r>
              <a:rPr b="0" lang="sk-SK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erozpustný zbytok: Ru, Ir,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VII. Získavanie 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. Tavenie s Na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(Ba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700 – 1000 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. Lúhovanie v 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roztok [RuO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k-SK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 (Na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RuO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časť Os: [Os(OH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Zahrievanie v prúde 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stilácia Ru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Lúhovanie s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tok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RuCl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5. Vylučovanie Ru prídavkom + 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zrazenina (NH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[RuCl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6. Tepelný roz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7. Žíhanie v prúde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Práškové R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Ru hu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Nerozpustný zbytok: Ir,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VIII. Získavanie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. Lúhovanie v lúčavke kráľovsk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IrCl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. Vylúčenie s prídavkom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+ NH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zrazenina (NH</a:t>
            </a:r>
            <a:r>
              <a:rPr b="0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4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[IrCl</a:t>
            </a:r>
            <a:r>
              <a:rPr b="0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. Tepelný roz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r prášková h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. Vyžíhani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 prúde 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Kovové práškové I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erozpustný zbytok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Postup výroby K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Spôsoby získavania koncentrátov zo surovín 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B) Spracovanie koncentrátov 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IX. Získavanie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. Lúhovanie OsO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ztoku NaO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Na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[O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L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parovanie OsO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g) do roztoku 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Ttav = 40,6 </a:t>
            </a:r>
            <a:r>
              <a:rPr b="1" lang="sk-SK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C    Tvaru = 131,2 </a:t>
            </a:r>
            <a:r>
              <a:rPr b="1" lang="sk-SK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. Vylučovanie Os prídavkom + N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zrazenina [Os(NH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Cl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(O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)]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. Tepelný roz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Os prášková h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. Žíhanie v prúde 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Kovové práškové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Arial"/>
              </a:rPr>
              <a:t>X. Získavanie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AgN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Vylúčenie AgCl pomocou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Tavenie: uhlie, Na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Odlievanie an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Rafinačná elektro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echnológie získavania kovov platinovej skupiny v pra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iame zrážanie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– Lonmin Platinum a Krastsvet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vapalinová extrakcia a zrážani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– Anglo American Platinum, Johnson Matthey, Heraeus, 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ónová výmena a zrážanie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– Impala Pla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Obrázok 3" descr=""/>
          <p:cNvPicPr/>
          <p:nvPr/>
        </p:nvPicPr>
        <p:blipFill>
          <a:blip r:embed="rId2"/>
          <a:stretch/>
        </p:blipFill>
        <p:spPr>
          <a:xfrm>
            <a:off x="247680" y="228600"/>
            <a:ext cx="864864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poločnosť Lonmin Western Platinum Refin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Obrázok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237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poločnosť Krastsvetm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rázok 3" descr=""/>
          <p:cNvPicPr/>
          <p:nvPr/>
        </p:nvPicPr>
        <p:blipFill>
          <a:blip r:embed="rId1"/>
          <a:srcRect l="0" t="0" r="4004" b="0"/>
          <a:stretch/>
        </p:blipFill>
        <p:spPr>
          <a:xfrm>
            <a:off x="360360" y="1143000"/>
            <a:ext cx="84232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poločnosť Anglo American Platin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Obrázok 3" descr=""/>
          <p:cNvPicPr/>
          <p:nvPr/>
        </p:nvPicPr>
        <p:blipFill>
          <a:blip r:embed="rId2"/>
          <a:srcRect l="0" t="0" r="5259" b="0"/>
          <a:stretch/>
        </p:blipFill>
        <p:spPr>
          <a:xfrm>
            <a:off x="934920" y="1219320"/>
            <a:ext cx="727416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poločnosť Vale Ac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Obrázok 3" descr=""/>
          <p:cNvPicPr/>
          <p:nvPr/>
        </p:nvPicPr>
        <p:blipFill>
          <a:blip r:embed="rId2"/>
          <a:srcRect l="0" t="0" r="2170" b="0"/>
          <a:stretch/>
        </p:blipFill>
        <p:spPr>
          <a:xfrm>
            <a:off x="838080" y="1052640"/>
            <a:ext cx="746784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poločnosť Impala Pla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Obrázok 3" descr=""/>
          <p:cNvPicPr/>
          <p:nvPr/>
        </p:nvPicPr>
        <p:blipFill>
          <a:blip r:embed="rId2"/>
          <a:srcRect l="0" t="0" r="2844" b="0"/>
          <a:stretch/>
        </p:blipFill>
        <p:spPr>
          <a:xfrm>
            <a:off x="1295280" y="1295280"/>
            <a:ext cx="6553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Arial"/>
              </a:rPr>
              <a:t>A) Spôsoby získavania koncentrátov zo surovín K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. Obohacovanie rúd KPS (0,0007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a) Gravitačné metódy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ysoká hustota K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b) Flotác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sulfidické r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→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centráty (0,01 – 0,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) Amalgam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ustnosť platiny rastie s teplo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termetalické zlúčeniny: PtHg, Pt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g, Pt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odstraňuje oxidy neželezných k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o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uda Pt + Zn amalgám v zriedenej 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isovanie amalgá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úhovanie v 10 % 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estilácia 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úhovanie s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dukt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70 %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d) Chlo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nie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bohatý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koncentrátov KPS chloračným lúhova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ieľ: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ť komplexné ľahkorozpustné s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1. Oxidačné praže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ak sulfidické r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2. Chloračné pra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NaCl + 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550 – 600 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t + 2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2 NaCl = </a:t>
            </a:r>
            <a:r>
              <a:rPr b="1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Na</a:t>
            </a:r>
            <a:r>
              <a:rPr b="1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/PtCl</a:t>
            </a:r>
            <a:r>
              <a:rPr b="1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3. Lúhovanie praženca v zriedenej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tok Pt, Pd,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4. Vylučovanie cementáci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 sa medziprodukt Pt kovov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spracovanie v lúčavke kráľovsk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Produkt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cementačná zráž: 2 – 8 % ušľachtilých k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50 % (percento) Pt, 15 % Pd, Cu, Ni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Účinnosť: 80 – 8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II) Príklad spracovania NiCu rudy s obsahom 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lotačný koncentrát 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tavenie na kamienok NiCu (kolektor KPS)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konvertorovanie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odlievanie taveniny do granúl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ff"/>
                </a:solidFill>
                <a:latin typeface="Arial"/>
              </a:rPr>
              <a:t>lúhovanie zliatiny NiC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obsahom KP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ff"/>
                </a:solidFill>
                <a:latin typeface="Arial"/>
              </a:rPr>
              <a:t>Medziprodukty: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rozpustný zbytok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je koncentrát K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Ni + Cu = spracova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získavanie kovov Ni a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II. Príklad spracovania CuNiCo r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prava rudy (sulfidická Cu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lotačný koncentrát (dvojnásobné mletie a flotá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bsah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KP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o flotačnom koncentráte kolíše okolo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100 až 1000 g/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Zkoncentrovanie KPS do taveniny kovov CuNiCo pyrometalurg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ušenie koncentrátu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tave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elektrickej peci pri teplotách nad 1500 °C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konvertorovanie kamienk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"konvertorový kamienok" obsahuje viac než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1400 g/t K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afinácia kamienka CuNiCo elektrolytickými spôsobmi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získanie kovov Cu, Ni a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medziprodukty: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anódové kaly s obsahom Au, Ag a K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Arial"/>
              </a:rPr>
              <a:t>B) Spracovanie koncentrátov K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Orac</cp:lastModifiedBy>
  <dcterms:modified xsi:type="dcterms:W3CDTF">2021-11-03T07:04:31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