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DA40-BC94-48DA-B8F8-64F930632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C6D2-8CA1-450B-BE54-B111B75F1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79F4-A138-42BC-B309-74C45CB01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EA65-DB43-4772-98DE-C4D872407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D2A6-85D8-486D-BF6B-DEFA34ACC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A84C-8CDE-4779-A70B-F1904AD85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38A4-A087-4110-89B9-A0B5F5407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DB47-E9F9-4DAF-8BF3-E2F089157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4DF0-6BE1-453E-B98D-8139B80F2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A3E6-9072-4DB6-92DA-8833FD2D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D16B-33EC-4370-B306-5AA661C0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D5DF-6ACB-4324-AB2B-1134A084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89C81-7B74-4A79-8F27-8E4C5B0CF66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28600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Tavenie a rafinácia Au, 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C14"/>
          <p:cNvPicPr/>
          <p:nvPr/>
        </p:nvPicPr>
        <p:blipFill>
          <a:blip r:embed="rId1"/>
          <a:stretch/>
        </p:blipFill>
        <p:spPr>
          <a:xfrm>
            <a:off x="457200" y="1447920"/>
            <a:ext cx="2000160" cy="2981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C11"/>
          <p:cNvPicPr/>
          <p:nvPr/>
        </p:nvPicPr>
        <p:blipFill>
          <a:blip r:embed="rId2"/>
          <a:stretch/>
        </p:blipFill>
        <p:spPr>
          <a:xfrm>
            <a:off x="6095880" y="4495680"/>
            <a:ext cx="2381400" cy="1524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C10"/>
          <p:cNvPicPr/>
          <p:nvPr/>
        </p:nvPicPr>
        <p:blipFill>
          <a:blip r:embed="rId3"/>
          <a:stretch/>
        </p:blipFill>
        <p:spPr>
          <a:xfrm>
            <a:off x="2743200" y="3581280"/>
            <a:ext cx="28954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51920" y="152280"/>
            <a:ext cx="861084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ff"/>
                </a:solidFill>
                <a:latin typeface="Arial"/>
              </a:rPr>
              <a:t>4. Kyslé</a:t>
            </a:r>
            <a:r>
              <a:rPr b="1" lang="sk-SK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sk-SK" sz="2400" spc="-1" strike="noStrike">
                <a:solidFill>
                  <a:srgbClr val="0000ff"/>
                </a:solidFill>
                <a:latin typeface="Arial"/>
              </a:rPr>
              <a:t>hydrometalurgické</a:t>
            </a:r>
            <a:r>
              <a:rPr b="1" lang="sk-SK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sk-SK" sz="2400" spc="-1" strike="noStrike">
                <a:solidFill>
                  <a:srgbClr val="0000ff"/>
                </a:solidFill>
                <a:latin typeface="Arial"/>
              </a:rPr>
              <a:t>metódy</a:t>
            </a:r>
            <a:r>
              <a:rPr b="1" lang="sk-SK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sk-SK" sz="2400" spc="-1" strike="noStrike">
                <a:solidFill>
                  <a:srgbClr val="0000ff"/>
                </a:solidFill>
                <a:latin typeface="Arial"/>
              </a:rPr>
              <a:t>rafinácie</a:t>
            </a:r>
            <a:r>
              <a:rPr b="1" lang="sk-SK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ff"/>
                </a:solidFill>
                <a:latin typeface="Arial"/>
              </a:rPr>
              <a:t>Au,</a:t>
            </a:r>
            <a:r>
              <a:rPr b="1" lang="sk-SK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ff"/>
                </a:solidFill>
                <a:latin typeface="Arial"/>
              </a:rPr>
              <a:t>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oužívajú sa pre </a:t>
            </a:r>
            <a:r>
              <a:rPr b="1" lang="sk-SK" sz="2000" spc="-1" strike="noStrike">
                <a:solidFill>
                  <a:srgbClr val="cc0099"/>
                </a:solidFill>
                <a:latin typeface="Arial"/>
              </a:rPr>
              <a:t>spracovanie zliatin</a:t>
            </a:r>
            <a:r>
              <a:rPr b="0" lang="sk-SK" sz="2000" spc="-1" strike="noStrike">
                <a:solidFill>
                  <a:srgbClr val="cc0099"/>
                </a:solidFill>
                <a:latin typeface="Arial"/>
              </a:rPr>
              <a:t> UK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pomocou rôznych kyselín, pričom sprievodné nečistoty a jeden z UK prechádzajú do roztoku  </a:t>
            </a:r>
            <a:br>
              <a:rPr sz="2000"/>
            </a:b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 druhý ostáva v nerozpustnom zbyt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333399"/>
                </a:solidFill>
                <a:uFillTx/>
                <a:latin typeface="Arial"/>
              </a:rPr>
              <a:t>4.1. Rafinácia s HNO</a:t>
            </a:r>
            <a:r>
              <a:rPr b="1" lang="sk-SK" sz="2000" spc="-1" strike="noStrike" u="sng" baseline="-25000">
                <a:solidFill>
                  <a:srgbClr val="333399"/>
                </a:solidFill>
                <a:uFillTx/>
                <a:latin typeface="Arial"/>
              </a:rPr>
              <a:t>3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Zliatiny s obsahom  Ag  2x – 3x  vyšším ako A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Lúhovanie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 je založené na </a:t>
            </a:r>
            <a:r>
              <a:rPr b="1" lang="sk-SK" sz="2000" spc="-1" strike="noStrike">
                <a:solidFill>
                  <a:srgbClr val="0000ff"/>
                </a:solidFill>
                <a:latin typeface="Arial"/>
              </a:rPr>
              <a:t>selektívnom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rozpúšťaní Ag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, pričom </a:t>
            </a:r>
            <a:r>
              <a:rPr b="0" lang="sk-SK" sz="2000" spc="-1" strike="noStrike">
                <a:solidFill>
                  <a:srgbClr val="0000ff"/>
                </a:solidFill>
                <a:latin typeface="Arial"/>
              </a:rPr>
              <a:t>Au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ostáva  v </a:t>
            </a:r>
            <a:r>
              <a:rPr b="0" lang="sk-SK" sz="2000" spc="-1" strike="noStrike">
                <a:solidFill>
                  <a:srgbClr val="0000ff"/>
                </a:solidFill>
                <a:latin typeface="Arial"/>
              </a:rPr>
              <a:t>nerozpustnom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zbytku. Používa sa horúca kyselina. Do roztoku prechádzajú tiež Cu, Pb, Pt, P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n, Bi a Sb je potrebné odstrániť pred lúhovaním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tavením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s dusičnanom sódnym alebo kupelácio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333399"/>
                </a:solidFill>
                <a:latin typeface="Arial"/>
              </a:rPr>
              <a:t>Spracovanie roztok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ylučovanie Ag: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                      Zrážanie vo forme chlorid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Redukcia chloridov: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                 Kovovým Fe alebo Z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Sušenie, tavenie, odlieva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rodukt: 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Nerozpustný zbytok Au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:  Premývanie, sušenie, tavenie, odlievan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rodukt: 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333399"/>
                </a:solidFill>
                <a:uFillTx/>
                <a:latin typeface="Arial"/>
              </a:rPr>
              <a:t>4.2 Rafinácia koncentrovanou H</a:t>
            </a:r>
            <a:r>
              <a:rPr b="1" lang="sk-SK" sz="1800" spc="-1" strike="noStrike" u="sng" baseline="-25000">
                <a:solidFill>
                  <a:srgbClr val="333399"/>
                </a:solidFill>
                <a:uFillTx/>
                <a:latin typeface="Arial"/>
              </a:rPr>
              <a:t>2</a:t>
            </a:r>
            <a:r>
              <a:rPr b="1" lang="sk-SK" sz="1800" spc="-1" strike="noStrike" u="sng">
                <a:solidFill>
                  <a:srgbClr val="333399"/>
                </a:solidFill>
                <a:uFillTx/>
                <a:latin typeface="Arial"/>
              </a:rPr>
              <a:t>SO</a:t>
            </a:r>
            <a:r>
              <a:rPr b="1" lang="sk-SK" sz="1800" spc="-1" strike="noStrike" u="sng" baseline="-25000">
                <a:solidFill>
                  <a:srgbClr val="333399"/>
                </a:solidFill>
                <a:uFillTx/>
                <a:latin typeface="Arial"/>
              </a:rPr>
              <a:t>4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Zliatiny s obsahom Ag 3x viac ako A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pod  7,5% Cu.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Lúhovanie: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Lúhuje sa  za  tepla  granulovaná zliatina alebo vo forme tenkých plieškov. Zlato ostáva v nerozpustnom zbytk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2 Ag + 2 H2SO4  =  Ag2SO4 + 2 H2O + S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Cu + 2 H2SO4   =  CuSO4 +  2 H2O + SO2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800" spc="-1" strike="noStrike">
                <a:solidFill>
                  <a:srgbClr val="000000"/>
                </a:solidFill>
                <a:latin typeface="Arial"/>
              </a:rPr>
              <a:t>Spracovanie roztoku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Vylučovanie Ag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:           1. Cementáciou s Cu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2. Kryštalizácia Ag</a:t>
            </a:r>
            <a:r>
              <a:rPr b="0" lang="sk-SK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sk-SK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pomalým ochladzova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Redukcia Ag</a:t>
            </a:r>
            <a:r>
              <a:rPr b="1" lang="sk-SK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sk-SK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:    Redukcia s Fe po rozpustení v horúcej v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Premývanie vodou, sušenie, tavenie a odlievanie ingot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Produkt:  Ag  980 – 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erozpustný zbytok Au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:    Premývanie, sušenie, pretavenie, odlievanie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Produkt:  996 – 999 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333399"/>
                </a:solidFill>
                <a:uFillTx/>
                <a:latin typeface="Arial"/>
              </a:rPr>
              <a:t>4.3 Rafinácia lúčavkou kráľovskou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re zliatiny s nízkym obsahom A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Lúhovanie: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  Lúhuje sa za tepla granulovaná zliatin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u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prechádza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do roztoku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vo forme chlorozlatitej kyselin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g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ostáva v nerozpustnom  zbytku vo forme  AgC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333399"/>
                </a:solidFill>
                <a:latin typeface="Arial"/>
              </a:rPr>
              <a:t>Spracovanie výluh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ylučovanie Au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:     Roztok sa </a:t>
            </a:r>
            <a:r>
              <a:rPr b="0" lang="sk-SK" sz="2000" spc="-1" strike="noStrike">
                <a:solidFill>
                  <a:srgbClr val="ff0066"/>
                </a:solidFill>
                <a:latin typeface="Arial"/>
              </a:rPr>
              <a:t>odparí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do sucha kvôli odstráneniu HNO3. Soli sa potom   rozpúšťajú vo vode a získaný roztok ide na redukci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Redukcia solí Au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:   Kyselinou šťavelovou  alebo železom  vyredukovanie A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remývanie, sušenie, tavenie,odlieva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rodukt:  998 – 999 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k-SK" sz="2000" spc="-1" strike="noStrike">
                <a:solidFill>
                  <a:srgbClr val="cc0099"/>
                </a:solidFill>
                <a:latin typeface="Arial"/>
              </a:rPr>
              <a:t>Kyslé metódy rafinácie sú </a:t>
            </a:r>
            <a:r>
              <a:rPr b="1" lang="sk-SK" sz="2000" spc="-1" strike="noStrike">
                <a:solidFill>
                  <a:srgbClr val="ff0066"/>
                </a:solidFill>
                <a:latin typeface="Arial"/>
              </a:rPr>
              <a:t>ekonomicky  náročné</a:t>
            </a:r>
            <a:r>
              <a:rPr b="0" lang="sk-SK" sz="2000" spc="-1" strike="noStrike">
                <a:solidFill>
                  <a:srgbClr val="cc0099"/>
                </a:solidFill>
                <a:latin typeface="Arial"/>
              </a:rPr>
              <a:t> a nezískavajú sa kovy dostatočnej čistoty. Používajú sa obmedzene </a:t>
            </a:r>
            <a:r>
              <a:rPr b="1" lang="sk-SK" sz="2000" spc="-1" strike="noStrike">
                <a:solidFill>
                  <a:srgbClr val="cc0099"/>
                </a:solidFill>
                <a:latin typeface="Arial"/>
              </a:rPr>
              <a:t>najmä</a:t>
            </a:r>
            <a:r>
              <a:rPr b="0" lang="sk-SK" sz="2000" spc="-1" strike="noStrike">
                <a:solidFill>
                  <a:srgbClr val="cc0099"/>
                </a:solidFill>
                <a:latin typeface="Arial"/>
              </a:rPr>
              <a:t> na </a:t>
            </a:r>
            <a:r>
              <a:rPr b="1" lang="sk-SK" sz="2000" spc="-1" strike="noStrike">
                <a:solidFill>
                  <a:srgbClr val="ff0066"/>
                </a:solidFill>
                <a:latin typeface="Arial"/>
              </a:rPr>
              <a:t>predúpravu</a:t>
            </a:r>
            <a:r>
              <a:rPr b="0" lang="sk-SK" sz="2000" spc="-1" strike="noStrike">
                <a:solidFill>
                  <a:srgbClr val="cc0099"/>
                </a:solidFill>
                <a:latin typeface="Arial"/>
              </a:rPr>
              <a:t> zliatin </a:t>
            </a:r>
            <a:r>
              <a:rPr b="1" lang="sk-SK" sz="2000" spc="-1" strike="noStrike">
                <a:solidFill>
                  <a:srgbClr val="ff0066"/>
                </a:solidFill>
                <a:latin typeface="Arial"/>
              </a:rPr>
              <a:t>pred elektrolytickou</a:t>
            </a:r>
            <a:r>
              <a:rPr b="0" lang="sk-SK" sz="2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ff0066"/>
                </a:solidFill>
                <a:latin typeface="Arial"/>
              </a:rPr>
              <a:t>rafinácio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6840" y="152280"/>
            <a:ext cx="84582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ff"/>
                </a:solidFill>
                <a:latin typeface="Arial"/>
              </a:rPr>
              <a:t>5. Elektrolytická rafin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5.1 Elektrolytická rafinácia zl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Elektrolyt: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HAuCl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 (70 – 200g/l Au) + HCl (40 – 100 g/l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oľná HCl zvyšuje elektrickú vodivosť elektrolytu, znižuje spotrebu elektrickej energie a pasiváciu zlata na anó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atóda: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elektrolytické zlato  (hrúbky 0,1 – 0,25 m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nóda: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urové 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rímesy: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g, Pt – kovy, 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asivácia anódy: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g sa rozpúšťa a vytvára AgCl a môže zabrániť ďalšiemu rozpúšťaniu anó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oužívajú sa anódy s obsahom do 6 % 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Disociácia elektrolyt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HAuCl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= H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+ AuCl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čiastočne: AuCl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= Au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+ 4 Cl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nóda: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u  + 4 Cl</a:t>
            </a:r>
            <a:r>
              <a:rPr b="1" lang="sk-SK" sz="24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+ 3 e</a:t>
            </a:r>
            <a:r>
              <a:rPr b="1" lang="sk-SK" sz="24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= AuCl</a:t>
            </a:r>
            <a:r>
              <a:rPr b="1" lang="sk-SK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sk-SK" sz="24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Štandardné potenciály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chlóru a kyslík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sú nižšie ako u zlata, preto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e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ochádza za normálnych podmienok elektrolýzy k ich vylučovaniu na anó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 Cl</a:t>
            </a:r>
            <a:r>
              <a:rPr b="1" lang="sk-SK" sz="24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– 2 e</a:t>
            </a:r>
            <a:r>
              <a:rPr b="1" lang="sk-SK" sz="24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= Cl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(g)               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E° = +1,36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 H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 – 4 e</a:t>
            </a:r>
            <a:r>
              <a:rPr b="1" lang="sk-SK" sz="24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= 4 H</a:t>
            </a:r>
            <a:r>
              <a:rPr b="0" lang="sk-SK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(g) 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E° = +1,23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atóda: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uCl</a:t>
            </a:r>
            <a:r>
              <a:rPr b="1" lang="sk-SK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sk-SK" sz="24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+ 3 e</a:t>
            </a:r>
            <a:r>
              <a:rPr b="1" lang="sk-SK" sz="24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&lt;=&gt; Au + 4 Cl</a:t>
            </a:r>
            <a:r>
              <a:rPr b="1" lang="sk-SK" sz="24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sk-SK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1" lang="sk-SK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= +0,99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zhľadom na vysoký potenciál Au je vylučovanie vodíka na katóde prakticky vylúčen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533520" y="4572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triebro sa ľahko oxiduje na anóde, tvorí nerozpustný Ag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Ag + Cl</a:t>
            </a:r>
            <a:r>
              <a:rPr b="1" lang="sk-SK" sz="2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 –  e</a:t>
            </a:r>
            <a:r>
              <a:rPr b="1" lang="sk-SK" sz="2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 = AgCl           E° = +0,22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urové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Au s obsahom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g do 6 %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je možné elektrolyticky rafinovať za použitia konštantného prúdu. V tomto prípade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gCl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ľahko opadáv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do anódového kalu a nevytvára súvislú vrstvu na povrchu anó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4582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 u="sng">
                <a:solidFill>
                  <a:srgbClr val="000000"/>
                </a:solidFill>
                <a:uFillTx/>
                <a:latin typeface="Arial"/>
              </a:rPr>
              <a:t>Prímes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e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i obsahu Cu v anódach nad 2 % sa po nahromadení v elektrolyte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môže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ylučovať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spolu so zlatom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aj napriek tomu, že Cu má nižší potenciá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pustný obsah Cu v elektrolyte je 90 g/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Olo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Rozpúšťa sa 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prvé</a:t>
            </a:r>
            <a:r>
              <a:rPr b="0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a anóde a prechádza do elektrolytu v koncentrácii, odpovedajúcej jeho rozpustnost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o nasýtení elektrolytu vytvára vrstvu PbCl</a:t>
            </a:r>
            <a:r>
              <a:rPr b="0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na povrchu anódy a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asivuje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ju tak ako AgC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nóda sa nepasivuje, ak súčet obsahu Ag a Pb neprevyšuje 13 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04920" y="60948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Žele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0000"/>
                </a:solidFill>
                <a:latin typeface="Arial"/>
              </a:rPr>
              <a:t>veľmi škodlivou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prímesou v </a:t>
            </a: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elektrolyte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, pretože </a:t>
            </a:r>
            <a:r>
              <a:rPr b="1" lang="sk-SK" sz="2000" spc="-1" strike="noStrike">
                <a:solidFill>
                  <a:srgbClr val="ff0000"/>
                </a:solidFill>
                <a:latin typeface="Arial"/>
              </a:rPr>
              <a:t>redukuje Au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z elektrolytu, ktoré vypadáva do anódového kal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latina, palád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rozpúšťajú sa na anóde, tvoria kyselinu chloroplatičitú a chlorid paladnat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i nahromadení sa v elektrolyte sa </a:t>
            </a:r>
            <a:r>
              <a:rPr b="1" lang="sk-SK" sz="2000" spc="-1" strike="noStrike">
                <a:solidFill>
                  <a:srgbClr val="ff0000"/>
                </a:solidFill>
                <a:latin typeface="Arial"/>
              </a:rPr>
              <a:t>môžu vylučovať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na katóde spolu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so </a:t>
            </a:r>
            <a:r>
              <a:rPr b="1" lang="sk-SK" sz="2000" spc="-1" strike="noStrike">
                <a:solidFill>
                  <a:srgbClr val="ff0000"/>
                </a:solidFill>
                <a:latin typeface="Arial"/>
              </a:rPr>
              <a:t>zlatom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, pretože ich štandardné </a:t>
            </a: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potenciály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sú </a:t>
            </a: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blízke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zlat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pustná koncentrácia Pt v elektrolyte je 50 a Pd 15 g/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80880" y="3805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Elektrolytické vane sú porcelánové alebo z vinilplas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atódy sú z elektrolytického zla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ane sú uložené vo vodnom kúpeli pre udržiavanie potrebnej teploty elektrolýzy. Elektrolyt sa premiešava zohriatym vzduchom, privedeným sklenenými trubka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i elektrolýze sa uvoľňuje chlór, preto sú vane uložené v digest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sk-SK" sz="2400" spc="-1" strike="noStrike">
                <a:solidFill>
                  <a:srgbClr val="000000"/>
                </a:solidFill>
                <a:latin typeface="Arial"/>
              </a:rPr>
              <a:t>Zlato sa vylučuje na katóde v hutnej, pevnej a lesklej  vrst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 u="sng">
                <a:solidFill>
                  <a:srgbClr val="000000"/>
                </a:solidFill>
                <a:uFillTx/>
                <a:latin typeface="Arial"/>
              </a:rPr>
              <a:t>Podmienky elektrolytickej rafinácie A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Elektrolyt: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00 g/l Au,  40 – 100 g/l H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Teplota: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50 – 60 </a:t>
            </a:r>
            <a:r>
              <a:rPr b="0" lang="sk-SK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symetrický prúd hustoty: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600 – 1500 A/m</a:t>
            </a:r>
            <a:r>
              <a:rPr b="0" lang="sk-SK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apätie na vani: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0,5 – 1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ok 1" descr=""/>
          <p:cNvPicPr/>
          <p:nvPr/>
        </p:nvPicPr>
        <p:blipFill>
          <a:blip r:embed="rId1"/>
          <a:stretch/>
        </p:blipFill>
        <p:spPr>
          <a:xfrm>
            <a:off x="2660760" y="3505320"/>
            <a:ext cx="3809880" cy="26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Do procesov tavenia a rafinácie sa používajú viaceré suroviny. Tieto suroviny pochádzajú z viacerých technologických operácií a je možné ich rozdeliť nasledovn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uroviny, ktoré vznikli získavaním z roztokov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cementačné zráž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elektrolyticky čisté kovy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dukty sorpčných technológií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nódové kaly z elektrolýzy medi, niklu, zlata, striebra a ďalši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medziprodukty z chlorácie a parkesovania, stery, úlety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liatiny s obsahom zlata, striebra a kovov platinovej skupin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 u="sng">
                <a:solidFill>
                  <a:srgbClr val="000000"/>
                </a:solidFill>
                <a:uFillTx/>
                <a:latin typeface="Arial"/>
              </a:rPr>
              <a:t>Spracovanie  Au kató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mývanie vodou a mechanické čiste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pracovanie s HCl alebo amoniakom (rozpustenie AgC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mývanie vodou, suše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Tavenie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v indukčnej peci, odlievanie ingot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Produkt: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99,98 – 99,99 % 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ímesy: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g, Cu, Fe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83818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 u="sng">
                <a:solidFill>
                  <a:srgbClr val="000000"/>
                </a:solidFill>
                <a:uFillTx/>
                <a:latin typeface="Arial"/>
              </a:rPr>
              <a:t>Spracovanie anódového ka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Množstvo vznikajúceho anódového kalu závisí od zloženia anód a kolíše od 10 – 20 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mývanie roztokom elektroly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mývanie kalu vodou v otáčajúcich sa bubnoch, kde cez otvory prepadáva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gCl(s)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do druhého bubna s vodou a tu ostávajú väčšie zrná Au z anódového kalu a dentrity katódového A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u kal sa suší a ide na tavenie anó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gCl sa redukuje Fe práškom v prostredí HCl, premýva sa vodou a odlieva na Ag anód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 u="sng">
                <a:solidFill>
                  <a:srgbClr val="000000"/>
                </a:solidFill>
                <a:uFillTx/>
                <a:latin typeface="Arial"/>
              </a:rPr>
              <a:t>Spracovanie opotrebovaného elektrolytu (elektrolytické vylučovanie Au z roztok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u – vylučovacia elektrolý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Anóda: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nerozpustná, grafit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Katóda: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Au pl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Prúdová hustota: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200 – 500 A/m</a:t>
            </a:r>
            <a:r>
              <a:rPr b="0" lang="sk-SK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t, Pd – Zrážanie chloridom amónny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u – Cementácia želez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ískanie kovov iónovou výmen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 u="sng">
                <a:solidFill>
                  <a:srgbClr val="0000ff"/>
                </a:solidFill>
                <a:uFillTx/>
                <a:latin typeface="Arial"/>
              </a:rPr>
              <a:t>5.2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Elektrolytická rafinácia strieb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lektroly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H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0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/l)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do 15 g/l K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ľná H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K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vyšuje elektrickú vodivosť elektrolytu a znižuje spotrebu el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ektricke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erg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atóda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ektrolytické Ag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, Al, oceľ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óda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rové 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ímes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u, Pt kovy, Cu, Pb, Bi, Zn, 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 spracovania anódových kalov aj Se,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ociácia elektrolyt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A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k-SK" sz="24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k-SK" sz="24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ó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g – e</a:t>
            </a:r>
            <a:r>
              <a:rPr b="1" lang="sk-SK" sz="24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= Ag</a:t>
            </a:r>
            <a:r>
              <a:rPr b="1" lang="sk-SK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+0,799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atód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g</a:t>
            </a:r>
            <a:r>
              <a:rPr b="1" lang="sk-SK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1" lang="sk-SK" sz="24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= 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u: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ah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u do 20</a:t>
            </a:r>
            <a:r>
              <a:rPr b="1" lang="sk-SK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enarušuje priebeh elektrolýz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Štandartný potenciál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—&gt;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+1,58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je podstatn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vyšš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ko u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 (0,799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preto sa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u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erozpúšť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a anóde a prechádza do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kal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 obsahu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anóde na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%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vorí hustú kôru na anóde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asivu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ju a spôsobuje bočné reakcie na elektróda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d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d/P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,987 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e hodnot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lízk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g, preto sa môž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ylučova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a katóde pri zvýšenom obsahu v elektrolyte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esmie prevýšiť 0,2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/l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chádza do ka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+0,337 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 ľahko rozpúšť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 anó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 nedostatočnom premiešavaní elektrolytu a pri zvýšenej prúdovej hustote s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ôž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ylučovať na katóde spolu s A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to j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raničn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oncentrácia Cu v elektrolyt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/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b,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hádzajú do elektrolytu, hydrolyzujú a vypadávajú do kal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ozpúšť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 na anóde a z roztoku vypadáva vo forme A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na proces elektrolýzy nemá vply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533520" y="15228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ožiadavky na zloženie Ag anód 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bsah</a:t>
            </a: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d 75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 20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čistoty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 7,5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triebro sa vylučuje na katóde vo forme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dendritov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kolmých na kató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by nedošlo k skratu, mechanicky sa strhávajú v časových intervalo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atódy sú uložené do vriec, aby dendrity nepadali na dno a nemiešali sa s anódovým kal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LEBO: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anódy sú uložené do vriec, kde sa zachytáva anódový k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533520" y="5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odmienky </a:t>
            </a:r>
            <a:r>
              <a:rPr b="1" lang="sk-SK" sz="3200" spc="-1" strike="noStrike" u="sng">
                <a:solidFill>
                  <a:srgbClr val="000000"/>
                </a:solidFill>
                <a:uFillTx/>
                <a:latin typeface="Arial"/>
              </a:rPr>
              <a:t>elektrolytickej rafinácie Ag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údova hustot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 – 600 A/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plota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– 50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atódová prúdová výťažnosť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4 – 96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pätie na vani: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2,5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otreba el energie: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,3 – 0,6 kWh na 1kg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finovaného 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04920" y="22856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Ďakujem za pozornos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1" lang="sk-SK" sz="2800" spc="-1" strike="noStrike">
                <a:solidFill>
                  <a:srgbClr val="0000ff"/>
                </a:solidFill>
                <a:latin typeface="Arial"/>
              </a:rPr>
              <a:t>avenie a rafinácia zlata a strie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1. Tave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lorá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ktrolytická rafiná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4. Hydrometalurgická rafiná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4582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ff"/>
                </a:solidFill>
                <a:latin typeface="Arial"/>
              </a:rPr>
              <a:t>1. Tavenie s troskotvornými prísada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Účelom tavenia je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odstrániť sprievodné kovy a iné nečistoty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, aby sa vytvoril odliatok s obsahom &gt; 95 % ušľachtilých kovov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Tento produkt je vhodný na priamy predaj a/alebo na ďalšiu rafináci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grafitových kelímkoch v elektrických indukčných peci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 vrstvou troskotvotvorných prísad, aby sa minimalizovali straty UK úle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roskotvorné prísady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,5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% z hmotnosti vsádzky kov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a viazanie nečistôt a odkysličova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oxidovanie sprievodných kovov do tros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ó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órax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etraboritan sódny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stný pop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 zliatiny: 1150 –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00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: 1040 –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60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6840" y="533520"/>
            <a:ext cx="83818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Oxidácia prímesí</a:t>
            </a:r>
            <a:r>
              <a:rPr b="1" i="1" lang="sk-SK" sz="2000" spc="-1" strike="noStrike" u="sng">
                <a:solidFill>
                  <a:srgbClr val="0000ff"/>
                </a:solidFill>
                <a:uFillTx/>
                <a:latin typeface="Arial"/>
              </a:rPr>
              <a:t> prídavkom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KNO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1" lang="sk-SK" sz="2000" spc="-1" strike="noStrike" baseline="-25000">
                <a:solidFill>
                  <a:srgbClr val="0000ff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ff"/>
                </a:solidFill>
                <a:latin typeface="Arial"/>
              </a:rPr>
              <a:t>alebo AgSO</a:t>
            </a:r>
            <a:r>
              <a:rPr b="1" lang="sk-SK" sz="20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KN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2 K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 + 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5 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2 Ag + S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Odkysličenie taveniny pred odlievaní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venie za prídavku dreveného uhl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venie vo váku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iebro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A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á sklon k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ztrekovaniu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 tuhnutí v dôsledku uvoľňovania pohlteného kyslík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tohoto dôvodu sa taví pod vrstvou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revenéh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hlia, ktoré zabezpečuj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dukčnú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fér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ztavený kov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 odliev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do ingotov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toré idú na rafináciu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hloráci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LEB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         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 anódy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upujúce na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ektrolytick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afináci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ff"/>
                </a:solidFill>
                <a:latin typeface="Arial"/>
              </a:rPr>
              <a:t>2. Tavenie s olovom a troskotvornými prísadami – Tavener pro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yužíva sa olovo na zber a separáciu ušľachtilých kovov z roztavenej vsádzk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ušľachtilé kovy sa potom získavajú kupeláciou (odparením olova) alebo menej často lúhovaním olova v kysel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oužíva sa na spracovanie materiálov nízkej kvality a materiálov s vysokým obsahom olo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sádzka: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troskotvorné prísady, oxid olovnatý (PbO) a v prípade potreby uhlí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Teplota: 1200 – 1400 °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xid olovnatý sa redukuje kovmi, sulfidmi a uhlíkom za vzniku kovového olova. Olovo odteká cez roztavenú vsádzku ako jemné kvapôčky a zhromažďuje zlato a strieb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oces je pomalý, hlavne preto, že vyžaduje dve fázy. Je náročný na prácu a produkujú sa výpary olova, ktoré predstavujú nebezpečenstvo pre zdrav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ff"/>
                </a:solidFill>
                <a:latin typeface="Arial"/>
              </a:rPr>
              <a:t>3.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Rafinácia chloráciou</a:t>
            </a:r>
            <a:r>
              <a:rPr b="1" lang="sk-SK" sz="2800" spc="-1" strike="noStrike">
                <a:solidFill>
                  <a:srgbClr val="0000ff"/>
                </a:solidFill>
                <a:latin typeface="Arial"/>
              </a:rPr>
              <a:t> – Miller pro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cí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loračnej rafinácie spočíva v tom, že neušľachtilé kovy a striebro sa oxidujú plynným chlórom oveľa ľahšie ako zla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 chlorácii sa fúka chlór do roztaveného surového zl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ajprv s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voria chloridy neušľachtilých kovov a striebra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, ktoré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rozpúšťaj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 roztavenom zl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ôsledku menšej mernej hmotnosti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vyplávajú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 povrc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Časť chloridov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rchá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edostatko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aného spôsobu sú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ra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g a Pt kovo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loženie kovu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d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loračnou rafinácio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8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% Au, 7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 % Ag, Cu, Pb, Fe, Z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odukt rafinácie: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u čistoty  99</a:t>
            </a:r>
            <a:r>
              <a:rPr b="1" lang="sk-SK" sz="2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5 – 99</a:t>
            </a:r>
            <a:r>
              <a:rPr b="1" lang="sk-SK" sz="2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sk-SK" sz="2000" spc="-1" strike="noStrike">
                <a:solidFill>
                  <a:srgbClr val="ff0000"/>
                </a:solidFill>
                <a:latin typeface="Arial"/>
              </a:rPr>
              <a:t>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Doba trvania: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30 – 45 minú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304920"/>
            <a:ext cx="838188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o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 kelímkoch s korundovou výmurovk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 indukčných elektrických pecia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u vsádzke surového kovu sa pridávajú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troskotvorné prísady bórax, kremeň a chlorid sódný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rstva trosky zabraňuje úletu kovu a znižuje rozrušovanie materiálu kelímk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o roztavení vsádzky sa do taveniny porcelánovou trubkou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fúka plynný chló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Teplota procesu je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1150 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ízkoprchavé chloridy Fe a Zn prechádzajú do plynnej fáz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Teplota varu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gCl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CuC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je vyššia ako teplota procesu, preto tvoria vrstvu 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roztavených chloridov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na </a:t>
            </a:r>
            <a:r>
              <a:rPr b="0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povrchu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roztaveného zl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ahromadená vrstva roztavených chloridov sa spolu s troskou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eriodicky sťahuje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a pridávajú sa nové dávky troskotvorných prís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Tvorba </a:t>
            </a:r>
            <a:r>
              <a:rPr b="1" lang="sk-SK" sz="2000" spc="-1" strike="noStrike">
                <a:solidFill>
                  <a:srgbClr val="ff0000"/>
                </a:solidFill>
                <a:latin typeface="Arial"/>
              </a:rPr>
              <a:t>červených dymov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nad taveninou je dôkaz tvorby </a:t>
            </a:r>
            <a:r>
              <a:rPr b="1" lang="sk-SK" sz="2000" spc="-1" strike="noStrike">
                <a:solidFill>
                  <a:srgbClr val="ff0000"/>
                </a:solidFill>
                <a:latin typeface="Arial"/>
              </a:rPr>
              <a:t>chloridu zlatitého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a proces sa ukončí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6840" y="762120"/>
            <a:ext cx="838188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Straty zl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mes chloridov a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rosky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sa znovu taví pri teplote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1100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s prídavkom malého množstva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ódy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Časť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 prito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ukuj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dľa rovn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Cl + 2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4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(Au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4 NaCl + 2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rhá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 sebou kvapôčky zlat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A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ískaná zliatina Au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g ide znovu na chloráci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usan Orac</cp:lastModifiedBy>
  <dcterms:modified xsi:type="dcterms:W3CDTF">2022-10-12T06:06:22Z</dcterms:modified>
  <cp:revision>4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