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3FA-F636-44D4-A661-E581C0CA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D1F-7179-465F-9E12-62CDAEFD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8BC-457F-4FD4-89CC-7978EB77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6B4-9871-4BFB-AFA1-4BAFA0A5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3ECD-58A8-4E16-8149-A5F05BCE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1E5-5481-4909-8574-37067B98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9CD-8A13-4AF3-B4FB-EC3C36C9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B74-C58E-4B5A-9277-36269823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439-A4C3-4AD5-B8B9-83258BD4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D4D-E6B5-4FF1-9884-F014CE0F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5F0-6114-4DA6-95AA-063EB1BA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199D-48BC-468C-8848-25FD4D87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39FD-6B97-4A6F-8582-190DD5F3140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Alternatívne technológ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lúhovania zl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ázok 2" descr=""/>
          <p:cNvPicPr/>
          <p:nvPr/>
        </p:nvPicPr>
        <p:blipFill>
          <a:blip r:embed="rId1"/>
          <a:srcRect l="0" t="0" r="0" b="856"/>
          <a:stretch/>
        </p:blipFill>
        <p:spPr>
          <a:xfrm>
            <a:off x="38160" y="152280"/>
            <a:ext cx="454176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Obrázok 3" descr=""/>
          <p:cNvPicPr/>
          <p:nvPr/>
        </p:nvPicPr>
        <p:blipFill>
          <a:blip r:embed="rId2"/>
          <a:srcRect l="0" t="0" r="0" b="961"/>
          <a:stretch/>
        </p:blipFill>
        <p:spPr>
          <a:xfrm>
            <a:off x="4451400" y="3352680"/>
            <a:ext cx="4657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3. Lúhovanie v roztoku tiosír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iosíran:</a:t>
            </a:r>
            <a:r>
              <a:rPr b="1" lang="sk-SK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Na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3,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(S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3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sk-SK" sz="2400" spc="-1" strike="noStrike" baseline="30000">
                <a:solidFill>
                  <a:srgbClr val="0000ff"/>
                </a:solidFill>
                <a:latin typeface="Arial"/>
              </a:rPr>
              <a:t>2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yslík – oxidačné čini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4Au + 8 (S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 = 4 Au(S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3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4 OH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u + 4 S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sk-SK" sz="2000" spc="-1" strike="noStrike">
                <a:solidFill>
                  <a:srgbClr val="ff0066"/>
                </a:solidFill>
                <a:latin typeface="Arial"/>
              </a:rPr>
              <a:t>Cu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Au(S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3–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+ 4 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Cu(S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3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lorid strieborný a sulfid strieborný sa ľahko lúhuje v tiosíranovom prostred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4. Lúhovanie halogenid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Zástupný objekt pre obsah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pic>
        <p:nvPicPr>
          <p:cNvPr id="60" name="Obrázok 7" descr=""/>
          <p:cNvPicPr/>
          <p:nvPr/>
        </p:nvPicPr>
        <p:blipFill>
          <a:blip r:embed="rId2"/>
          <a:stretch/>
        </p:blipFill>
        <p:spPr>
          <a:xfrm>
            <a:off x="1371600" y="3862440"/>
            <a:ext cx="6705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80520" y="609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Arial"/>
              </a:rPr>
              <a:t>Lúhovan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kyslo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roztoku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iomočoviny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SC(NH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(T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o vodných roztokoch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kyslého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iokyanátu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(SCN</a:t>
            </a:r>
            <a:r>
              <a:rPr b="1" lang="sk-SK" sz="2400" spc="-1" strike="noStrike" baseline="30000">
                <a:solidFill>
                  <a:srgbClr val="0000ff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 roztokoch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alkalických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iosíranov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(S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sk-SK" sz="2400" spc="-1" strike="noStrike" baseline="30000">
                <a:solidFill>
                  <a:srgbClr val="0000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Chloridačné: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HCl, Cl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, NaCl, Cu</a:t>
            </a:r>
            <a:r>
              <a:rPr b="1" lang="sk-SK" sz="24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, pH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Obrázok 3" descr=""/>
          <p:cNvPicPr/>
          <p:nvPr/>
        </p:nvPicPr>
        <p:blipFill>
          <a:blip r:embed="rId2"/>
          <a:stretch/>
        </p:blipFill>
        <p:spPr>
          <a:xfrm>
            <a:off x="228600" y="85680"/>
            <a:ext cx="87678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1. Lúhovanie v roztoku  tiomočo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iomočovina (TM):</a:t>
            </a:r>
            <a:r>
              <a:rPr b="0" lang="sk-SK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ff"/>
                </a:solidFill>
                <a:uFillTx/>
                <a:latin typeface="Arial"/>
              </a:rPr>
              <a:t>SC(NH</a:t>
            </a:r>
            <a:r>
              <a:rPr b="1" lang="sk-SK" sz="2000" spc="-1" strike="noStrike" u="sng" baseline="-25000">
                <a:solidFill>
                  <a:srgbClr val="0000ff"/>
                </a:solidFill>
                <a:uFillTx/>
                <a:latin typeface="Arial"/>
              </a:rPr>
              <a:t>2</a:t>
            </a:r>
            <a:r>
              <a:rPr b="1" lang="sk-SK" sz="20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r>
              <a:rPr b="1" lang="sk-SK" sz="2000" spc="-1" strike="noStrike" u="sng" baseline="-25000">
                <a:solidFill>
                  <a:srgbClr val="0000ff"/>
                </a:solidFill>
                <a:uFillTx/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xidačné činidlo: Fe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Lúhovací roztok je tvoren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tiomočovina + kyselina + oxidačné činid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POZOR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Pri lúhovaní v </a:t>
            </a: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tiomočovin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vzniká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katiónový komplex !!!,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i lúhovaní v </a:t>
            </a: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kyanidoch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vzniká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 aniónový k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Reakc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u + 2 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Au[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E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+0,38 V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g + 3 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Ag[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E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+0,023 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Oxidačné činid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u +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sk-SK" sz="2000" spc="-1" strike="noStrike" baseline="30000">
                <a:solidFill>
                  <a:srgbClr val="ff0000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2 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Au[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g +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sk-SK" sz="2000" spc="-1" strike="noStrike" baseline="30000">
                <a:solidFill>
                  <a:srgbClr val="ff0000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3 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Ag [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bytočné ióny Fe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= [Fe(III)S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49480" y="4309560"/>
            <a:ext cx="42328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lasti stability v sys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 Au-CS(N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tivita TM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ktivita Au iónov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745880" y="4447440"/>
            <a:ext cx="42253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lasti stability v sys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 Ag-CS(N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tivita TM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ktivita Ag iónov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ok 5" descr=""/>
          <p:cNvPicPr/>
          <p:nvPr/>
        </p:nvPicPr>
        <p:blipFill>
          <a:blip r:embed="rId1"/>
          <a:stretch/>
        </p:blipFill>
        <p:spPr>
          <a:xfrm>
            <a:off x="266760" y="1371600"/>
            <a:ext cx="3600360" cy="2735280"/>
          </a:xfrm>
          <a:prstGeom prst="rect">
            <a:avLst/>
          </a:prstGeom>
          <a:ln w="0">
            <a:noFill/>
          </a:ln>
        </p:spPr>
      </p:pic>
      <p:pic>
        <p:nvPicPr>
          <p:cNvPr id="50" name="Obrázok 6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3600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Oxidácia tiomočoviny – rozk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0000"/>
                </a:solidFill>
                <a:uFillTx/>
                <a:latin typeface="Arial"/>
              </a:rPr>
              <a:t>a) Prvý stupeň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oxidácie tiomočov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ratný proce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formamidin disulfid (F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 SC(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= 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H)CSSC(NH)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° = +0,42 V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formamidin disulf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0000"/>
                </a:solidFill>
                <a:latin typeface="Arial"/>
              </a:rPr>
              <a:t>Oxidácia prítomnosťou oxidačných činid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 SC(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= 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H)CSSC(NH)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 SC(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= 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H)CSSC(NH)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ff0000"/>
                </a:solidFill>
                <a:latin typeface="Arial"/>
              </a:rPr>
              <a:t>FD – aktívny oxidant</a:t>
            </a:r>
            <a:r>
              <a:rPr b="1" i="1" lang="sk-SK" sz="1800" spc="-1" strike="noStrike">
                <a:solidFill>
                  <a:srgbClr val="000000"/>
                </a:solidFill>
                <a:latin typeface="Arial"/>
              </a:rPr>
              <a:t> pre lúhovanie zlata a striebra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 Au + 2 SC(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H)CSSC(NH)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= Au[SC(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 Ag + 4 SC(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H)CSSC(NH)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= 2 Ag[SC(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ff0000"/>
                </a:solidFill>
                <a:uFillTx/>
                <a:latin typeface="Arial"/>
              </a:rPr>
              <a:t>b) Druhý stupeň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evratný proce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roz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D sa rozkladá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TM, elementárna síra, kyanamid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(NH)CSSC(NH)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CN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S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(NH)CSSC(NH)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2 [CN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] + 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 + S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(NH)CSSC(NH)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S – zlúčen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lúčeniny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2 [CN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+ 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yanamid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hnojiv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žšia toxici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roti lúhovaniu v alkalických kyanid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enší dopad na životné prostredie – praktická neškodnosť produktov rozkladu TM (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kyanamid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môže byť použitý ako hnoj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Ľahšie narábanie s reagen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yššia selek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ýchlos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lúhovan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šľachtilých kov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hodnosť použitia pre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ťažkospracovateľné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ulfidické zlatonosné r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spotreba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genci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ff"/>
                </a:solidFill>
                <a:uFillTx/>
                <a:latin typeface="Arial"/>
              </a:rPr>
              <a:t>2. Lúhovanie v roztoku tiokyan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tiokyanát (rodanid):</a:t>
            </a:r>
            <a:r>
              <a:rPr b="0" lang="sk-SK" sz="2400" spc="-1" strike="noStrike">
                <a:solidFill>
                  <a:srgbClr val="0000ff"/>
                </a:solidFill>
                <a:latin typeface="Arial"/>
              </a:rPr>
              <a:t> (SCN</a:t>
            </a:r>
            <a:r>
              <a:rPr b="0" lang="sk-SK" sz="2400" spc="-1" strike="noStrike" baseline="30000">
                <a:solidFill>
                  <a:srgbClr val="0000ff"/>
                </a:solidFill>
                <a:latin typeface="Arial"/>
              </a:rPr>
              <a:t>–</a:t>
            </a:r>
            <a:r>
              <a:rPr b="0" i="1" lang="sk-SK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Zlato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a lúhuje vo vodných roztokoch kyslého tiokyanátu (SCN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) a vytvára obidva komplexy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Au(I) a Au(III),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 závislosti od potenciálu rozto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u + 2 SCN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= Au(SCN)</a:t>
            </a:r>
            <a:r>
              <a:rPr b="1" lang="sk-SK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;  E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= +0,662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u + 4 SCN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= Au(SCN)</a:t>
            </a:r>
            <a:r>
              <a:rPr b="1" lang="sk-SK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;  E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= +0,636 V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Fe(III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je najvhodnejším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oxidanto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Optimáln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medzie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p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je medzi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2,0 – 3,0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riebro vytvára pomerne nerozpustný produkt, strieborný tiokyanát a nie je možné ho získať týmto proces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san Orac</cp:lastModifiedBy>
  <dcterms:modified xsi:type="dcterms:W3CDTF">2022-10-12T05:39:0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